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D399-E7FD-4264-8863-C65795B9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3C1-753F-4335-8F49-FDC50144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5406-3CF6-4BF0-B646-E195CD6A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29D-C140-4D76-96C5-F17E93D3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C474-F3EC-410F-99E8-3C91ACDC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EE2C-C487-4426-B116-534D9FE8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E376-4052-4D0A-9B81-3AD05108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972A-A651-4124-8CCE-882D10EE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0147-0EB4-46EE-9523-14BB80F8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FD0C-0196-485A-B399-EABB1C98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3ABB-5639-4F30-A480-F14BF260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1F2-ABF1-4878-BCA5-B648B253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A57B-0E21-4309-BCC1-31A2A1C4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C012-4ABC-4238-AEB7-B48C8A95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9EA5-9EB2-4102-ABCD-172170AC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5D29-A428-4F57-8376-8FCEE30E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1225-4887-4100-A2BA-BB779675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BFF-24E2-4E99-8224-4FD4F836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32CA-1FB5-45A3-8829-A0838CCA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8337-8549-4603-9609-B165B931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3FDF-DB05-4E8D-9580-878E34B2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E26-EEA5-4C39-AC16-6E507181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6574-F69C-45D6-A089-6B39F9E7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8292-B969-402F-95DF-A516EB13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fld id="{4FB76368-524B-434A-B1F4-B447FE398521}" type="datetime"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A5DE-4C92-420A-8102-E13994080C90}" type="slidenum"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5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480" y="6289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228600" y="6210360"/>
          <a:ext cx="533520" cy="64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210360"/>
                    <a:ext cx="5335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46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127E-5BAC-4886-97A6-C3A95B43018A}" type="datetime"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5EED-5122-4ED2-ADF1-7EEF8691F4F9}" type="slidenum"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632448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Times New Roman"/>
              </a:rPr>
              <a:t>Les indicateurs de l’enseignement   </a:t>
            </a:r>
            <a:r>
              <a:rPr b="0" lang="fr-CH" sz="1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fr-FR" sz="1200" spc="-1" strike="noStrike">
                <a:solidFill>
                  <a:srgbClr val="ffffcc"/>
                </a:solidFill>
                <a:latin typeface="Times New Roman"/>
              </a:rPr>
              <a:t>San Sebastian - 11-12 juillet 2002/1</a:t>
            </a:r>
            <a:r>
              <a:rPr b="0" lang="fr-CH" sz="1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5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480" y="6289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600" y="6019920"/>
          <a:ext cx="533520" cy="64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019920"/>
                    <a:ext cx="5335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2895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cc00"/>
                </a:solidFill>
                <a:latin typeface="Times New Roman"/>
              </a:rPr>
              <a:t>Gli indicatori dell’istruzione</a:t>
            </a:r>
            <a:r>
              <a:rPr b="1" lang="fr-FR" sz="3600" spc="-1" strike="noStrike">
                <a:solidFill>
                  <a:srgbClr val="ffcc00"/>
                </a:solidFill>
                <a:latin typeface="Times New Roman"/>
              </a:rPr>
              <a:t>:</a:t>
            </a:r>
            <a:br>
              <a:rPr sz="3600"/>
            </a:br>
            <a:br>
              <a:rPr sz="1000"/>
            </a:br>
            <a:r>
              <a:rPr b="0" lang="fr-CH" sz="3000" spc="-1" strike="noStrike">
                <a:solidFill>
                  <a:srgbClr val="ffcc00"/>
                </a:solidFill>
                <a:latin typeface="Times New Roman"/>
              </a:rPr>
              <a:t>uno strumento di lavoro al servizio della scuola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7467840" cy="22860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 algn="ctr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Norberto Bottan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 algn="ctr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 algn="ctr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Direttore del Servizio di ricerca sulla scuola  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(SRED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 algn="ctr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Dipartimento della Pubblica Istruzione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 - G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inevr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 algn="ctr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 algn="ctr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E-mail : norberto.bottani@etat.ge.c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 algn="ctr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5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5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_PROV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3D91-24D5-4EDB-8872-12E31215678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E24EB-CD2D-4D53-A5DC-CEA6F6D55E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20120" cy="1752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cc00"/>
                </a:solidFill>
                <a:latin typeface="Times New Roman"/>
              </a:rPr>
              <a:t>3. RAGIONI DELLA POPOLARITÀ DEGLI INDICATORI</a:t>
            </a:r>
            <a:r>
              <a:rPr b="0" lang="fr-CH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696080" cy="38098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lvl="2" marL="111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La mondializzazione della competizione economica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Il ruolo dell’informazione, del sapere, della conoscenza nelle società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contemporane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La perdita di credibilità della scuola ( esempio: l’aumento della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disoccupazione giovanile nonostante l’espansione scolastica  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l’aumento del livello medio d’istruzion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Le politiche del controllo della qualità del servizio pubblic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La privatizzazione dei servizi statali o la contestazione dei monopoli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statali nei servizi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Le trasformazioni subite dai sistemi scolastic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2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_PROV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1D9-FFBB-492B-90B5-F7AFD248C7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D7521-DB33-4915-9E66-589EA2953E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CH" sz="4000" spc="-1" strike="noStrike">
                <a:solidFill>
                  <a:srgbClr val="ffcc00"/>
                </a:solidFill>
                <a:latin typeface="Times New Roman"/>
              </a:rPr>
              <a:t>4. INDICATORI E VALUTAZIONE DEL SISTEMA SCOLASTICO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cc"/>
                </a:solidFill>
                <a:latin typeface="Times New Roman"/>
              </a:rPr>
              <a:t>4.1 I vantaggi degli indicatori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cc"/>
                </a:solidFill>
                <a:latin typeface="Times New Roman"/>
              </a:rPr>
              <a:t>4.2 Le fonti d’informazione ( provenienza dei             dat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_PROV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79F-6CBD-40D5-BCA1-084F9CB4D5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06ABE-316F-4888-90B0-E1D532272B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cc00"/>
                </a:solidFill>
                <a:latin typeface="Times New Roman"/>
              </a:rPr>
              <a:t>4.1 Vantaggi degli indicator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Gli indicatori sono uno strumento che si adatta alle politic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scolastic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Times New Roman"/>
              </a:rPr>
              <a:t>Gli indicatori sono uno strumento di verifica della validità degli investimenti statali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Times New Roman"/>
              </a:rPr>
              <a:t>Gli indicatori sono un mezzo adeguato per rendere conto dei risultati  ( gli output) e collegarli con gli input e le procedure di lavoro o di produzion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_PROV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5593-2F61-461C-97B3-C95511470CE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EA599-00A9-48A9-8417-0C357BD8A7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cc00"/>
                </a:solidFill>
                <a:latin typeface="Times New Roman"/>
              </a:rPr>
              <a:t>4.1.1 </a:t>
            </a:r>
            <a:r>
              <a:rPr b="1" lang="fr-FR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fr-CH" sz="4400" spc="-1" strike="noStrike">
                <a:solidFill>
                  <a:srgbClr val="ffcc00"/>
                </a:solidFill>
                <a:latin typeface="Times New Roman"/>
              </a:rPr>
              <a:t>Uno strumento per le  politiche scolastich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3886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 anchorCtr="1">
            <a:normAutofit fontScale="87000"/>
          </a:bodyPr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Esempi</a:t>
            </a:r>
            <a:r>
              <a:rPr b="0" sz="2000" spc="-1" strike="noStrike">
                <a:solidFill>
                  <a:srgbClr val="ffffcc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Monotype Sort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Analisi dei  risultati scolastici di una classe o di un istitu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in funzione della composizione della loro  popolazione scolastic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</a:t>
            </a:r>
            <a:r>
              <a:rPr b="0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Analisi delle relazioni tra profitto scolastico e costi d’istruzion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Monotype Sort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Analisi delle correlazioni tra condizioni di lavoro dei docenti 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livelli d’apprendimento degli student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Le analisi multilivello; </a:t>
            </a:r>
            <a:r>
              <a:rPr b="0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il caso del gradiente socia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cc"/>
                </a:solidFill>
                <a:latin typeface="Times New Roman"/>
              </a:rPr>
              <a:t>(Voir OCDE: Connaissances et compétences : des atouts pou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cc"/>
                </a:solidFill>
                <a:latin typeface="Times New Roman"/>
              </a:rPr>
              <a:t>la vie, premiers résultats de PISA 2000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_PROV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C754-581A-4FE4-91AF-CFCE7692A8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23154-45B0-4F74-80CD-260607B8B2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1905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cc00"/>
                </a:solidFill>
                <a:latin typeface="Times New Roman"/>
              </a:rPr>
              <a:t>4.1</a:t>
            </a:r>
            <a:r>
              <a:rPr b="1" sz="4400" spc="-1" strike="noStrike">
                <a:solidFill>
                  <a:srgbClr val="ffcc00"/>
                </a:solidFill>
                <a:latin typeface="Times New Roman"/>
              </a:rPr>
              <a:t>.</a:t>
            </a:r>
            <a:r>
              <a:rPr b="1" lang="fr-CH" sz="44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1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fr-CH" sz="4400" spc="-1" strike="noStrike">
                <a:solidFill>
                  <a:srgbClr val="ffcc00"/>
                </a:solidFill>
                <a:latin typeface="Times New Roman"/>
              </a:rPr>
              <a:t>Uno strumento di verifica della validità degli investimenti statal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772400" cy="3200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 anchorCtr="1">
            <a:normAutofit fontScale="96000"/>
          </a:bodyPr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Fine delle politiche scolastiche d’espansione indiscriminata,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di crescita senza limiti della spesa pubblica per la scuola e d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investimenti a fondo perso senza prove giustificativ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cc"/>
                </a:solidFill>
                <a:latin typeface="Times New Roman"/>
              </a:rPr>
              <a:t>La ricerca  delle prove: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CH" sz="1400" spc="-1" strike="noStrike">
                <a:solidFill>
                  <a:srgbClr val="ffffcc"/>
                </a:solidFill>
                <a:latin typeface="Times New Roman"/>
              </a:rPr>
              <a:t>La mancanza di prove  oggettive di profitto è una prova di mancanza di qualsiasi profitto?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cc"/>
                </a:solidFill>
                <a:latin typeface="Times New Roman"/>
              </a:rPr>
              <a:t>Se si investe senza profitto alcuno, si può disinvestire impunemente, senza alcuna perdita?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_PROV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242-F82C-4298-9FFD-69FC061DC4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35F60-910A-4496-9E9C-9F4904BF5C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981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cc00"/>
                </a:solidFill>
                <a:latin typeface="Times New Roman"/>
              </a:rPr>
              <a:t>4.1.</a:t>
            </a:r>
            <a:r>
              <a:rPr b="1" sz="4400" spc="-1" strike="noStrike">
                <a:solidFill>
                  <a:srgbClr val="ffcc00"/>
                </a:solidFill>
                <a:latin typeface="Times New Roman"/>
              </a:rPr>
              <a:t>3 </a:t>
            </a:r>
            <a:r>
              <a:rPr b="1" lang="fr-CH" sz="4400" spc="-1" strike="noStrike">
                <a:solidFill>
                  <a:srgbClr val="ffcc00"/>
                </a:solidFill>
                <a:latin typeface="Times New Roman"/>
              </a:rPr>
              <a:t>Un mezzo per rendere conto dei risultati dell’insegnam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077320" cy="37335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 anchorCtr="1">
            <a:normAutofit fontScale="76000"/>
          </a:bodyPr>
          <a:p>
            <a:pPr lvl="1" marL="564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Gli indicatori si prestano per verificare l’adequazione tra le finalità d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64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servizio scolastico e le prestazioni realmente fornite dalle scuole e dal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64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sistema scolas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64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Esempi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Gli apprendimenti scolastici</a:t>
            </a:r>
            <a:r>
              <a:rPr b="0" sz="18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il bagaglio di conoscenze scolastich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appres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cc"/>
                </a:solidFill>
                <a:latin typeface="Times New Roman"/>
              </a:rPr>
              <a:t>Le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 competenze di </a:t>
            </a:r>
            <a:r>
              <a:rPr b="0" sz="1800" spc="-1" strike="noStrike">
                <a:solidFill>
                  <a:srgbClr val="ffffcc"/>
                </a:solidFill>
                <a:latin typeface="Times New Roman"/>
              </a:rPr>
              <a:t>base (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i livelli di « literacy »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L’inserimento nel mercato del lavoro in funzione dei livelli d’istruzione</a:t>
            </a:r>
            <a:r>
              <a:rPr b="0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868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_PROV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2874-D92A-4F3D-8373-732CBF31062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B2BE1-2564-42DB-A304-CAADB3B823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197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cc00"/>
                </a:solidFill>
                <a:latin typeface="Times New Roman"/>
              </a:rPr>
              <a:t>4.2 Le fonti d’informazio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2674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CH" sz="1800" spc="-1" strike="noStrike">
                <a:solidFill>
                  <a:srgbClr val="ffffcc"/>
                </a:solidFill>
                <a:latin typeface="Times New Roman"/>
              </a:rPr>
              <a:t>Indagini internazionali</a:t>
            </a:r>
            <a:r>
              <a:rPr b="1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Le indagini </a:t>
            </a:r>
            <a:r>
              <a:rPr b="0" sz="1800" spc="-1" strike="noStrike">
                <a:solidFill>
                  <a:srgbClr val="ffffcc"/>
                </a:solidFill>
                <a:latin typeface="Times New Roman"/>
              </a:rPr>
              <a:t> IEA, 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tra il</a:t>
            </a:r>
            <a:r>
              <a:rPr b="0" sz="1800" spc="-1" strike="noStrike">
                <a:solidFill>
                  <a:srgbClr val="ffffcc"/>
                </a:solidFill>
                <a:latin typeface="Times New Roman"/>
              </a:rPr>
              <a:t> 1959 e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 il </a:t>
            </a:r>
            <a:r>
              <a:rPr b="0" sz="1800" spc="-1" strike="noStrike">
                <a:solidFill>
                  <a:srgbClr val="ffffcc"/>
                </a:solidFill>
                <a:latin typeface="Times New Roman"/>
              </a:rPr>
              <a:t> 1997 : 15 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indagin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ffffcc"/>
                </a:solidFill>
                <a:latin typeface="Times New Roman"/>
              </a:rPr>
              <a:t>Le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 ultime indagini IEA</a:t>
            </a:r>
            <a:r>
              <a:rPr b="0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43880" indent="-1918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cc"/>
                </a:solidFill>
                <a:latin typeface="Times New Roman"/>
              </a:rPr>
              <a:t>TIMSS</a:t>
            </a:r>
            <a:r>
              <a:rPr b="0" sz="1600" spc="-1" strike="noStrike">
                <a:solidFill>
                  <a:srgbClr val="ffffcc"/>
                </a:solidFill>
                <a:latin typeface="Times New Roman"/>
              </a:rPr>
              <a:t> (1994)</a:t>
            </a:r>
            <a:r>
              <a:rPr b="0" lang="fr-CH" sz="16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sz="1600" spc="-1" strike="noStrike">
                <a:solidFill>
                  <a:srgbClr val="ffffcc"/>
                </a:solidFill>
                <a:latin typeface="Times New Roman"/>
              </a:rPr>
              <a:t> 45 pa</a:t>
            </a:r>
            <a:r>
              <a:rPr b="0" lang="fr-CH" sz="1600" spc="-1" strike="noStrike">
                <a:solidFill>
                  <a:srgbClr val="ffffcc"/>
                </a:solidFill>
                <a:latin typeface="Times New Roman"/>
              </a:rPr>
              <a:t>esi partecipanti</a:t>
            </a:r>
            <a:r>
              <a:rPr b="0" sz="16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fr-CH" sz="1600" spc="-1" strike="noStrike">
                <a:solidFill>
                  <a:srgbClr val="ffffcc"/>
                </a:solidFill>
                <a:latin typeface="Times New Roman"/>
              </a:rPr>
              <a:t>stessi questionari in </a:t>
            </a:r>
            <a:r>
              <a:rPr b="0" sz="1600" spc="-1" strike="noStrike">
                <a:solidFill>
                  <a:srgbClr val="ffffcc"/>
                </a:solidFill>
                <a:latin typeface="Times New Roman"/>
              </a:rPr>
              <a:t>30 </a:t>
            </a:r>
            <a:r>
              <a:rPr b="0" lang="fr-CH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cc"/>
                </a:solidFill>
                <a:latin typeface="Times New Roman"/>
              </a:rPr>
              <a:t>l</a:t>
            </a:r>
            <a:r>
              <a:rPr b="0" lang="fr-CH" sz="1600" spc="-1" strike="noStrike">
                <a:solidFill>
                  <a:srgbClr val="ffffcc"/>
                </a:solidFill>
                <a:latin typeface="Times New Roman"/>
              </a:rPr>
              <a:t>ingue</a:t>
            </a:r>
            <a:r>
              <a:rPr b="0" sz="16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fr-CH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34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ffffcc"/>
                </a:solidFill>
                <a:latin typeface="Times New Roman"/>
              </a:rPr>
              <a:t>500.000 </a:t>
            </a:r>
            <a:r>
              <a:rPr b="0" lang="fr-CH" sz="1600" spc="-1" strike="noStrike">
                <a:solidFill>
                  <a:srgbClr val="ffffcc"/>
                </a:solidFill>
                <a:latin typeface="Times New Roman"/>
              </a:rPr>
              <a:t>studenti coinvolti (3 fasce d’età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cc"/>
                </a:solidFill>
                <a:latin typeface="Times New Roman"/>
              </a:rPr>
              <a:t>Civic studies …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cc"/>
                </a:solidFill>
                <a:latin typeface="Times New Roman"/>
              </a:rPr>
              <a:t>TIMSS R …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Il ciclo di indagini dell’OCSE-</a:t>
            </a:r>
            <a:r>
              <a:rPr b="0" sz="1800" spc="-1" strike="noStrike">
                <a:solidFill>
                  <a:srgbClr val="ffffcc"/>
                </a:solidFill>
                <a:latin typeface="Times New Roman"/>
              </a:rPr>
              <a:t> PISA (2000; 2003; 2006) :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sz="1800" spc="-1" strike="noStrike">
                <a:solidFill>
                  <a:srgbClr val="ffffcc"/>
                </a:solidFill>
                <a:latin typeface="Times New Roman"/>
              </a:rPr>
              <a:t>31 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paesi partecipanti</a:t>
            </a:r>
            <a:r>
              <a:rPr b="0" sz="1800" spc="-1" strike="noStrike">
                <a:solidFill>
                  <a:srgbClr val="ffffcc"/>
                </a:solidFill>
                <a:latin typeface="Times New Roman"/>
              </a:rPr>
              <a:t>, 250’000 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studenti</a:t>
            </a:r>
            <a:r>
              <a:rPr b="0" sz="1800" spc="-1" strike="noStrike">
                <a:solidFill>
                  <a:srgbClr val="ffffcc"/>
                </a:solidFill>
                <a:latin typeface="Times New Roman"/>
              </a:rPr>
              <a:t> d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sz="1800" spc="-1" strike="noStrike">
                <a:solidFill>
                  <a:srgbClr val="ffffcc"/>
                </a:solidFill>
                <a:latin typeface="Times New Roman"/>
              </a:rPr>
              <a:t> 15 an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n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_PROV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AF63-AFAB-4134-AF66-B95381CE39D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111BC-C66D-4510-92BC-8978C37EA2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cc00"/>
                </a:solidFill>
                <a:latin typeface="Times New Roman"/>
              </a:rPr>
              <a:t>Indagini nazional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Il</a:t>
            </a:r>
            <a:r>
              <a:rPr b="0" sz="2000" spc="-1" strike="noStrike">
                <a:solidFill>
                  <a:srgbClr val="ffffcc"/>
                </a:solidFill>
                <a:latin typeface="Times New Roman"/>
              </a:rPr>
              <a:t> NAEP 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negli </a:t>
            </a:r>
            <a:r>
              <a:rPr b="0" sz="2000" spc="-1" strike="noStrike">
                <a:solidFill>
                  <a:srgbClr val="ffffcc"/>
                </a:solidFill>
                <a:latin typeface="Times New Roman"/>
              </a:rPr>
              <a:t> USA (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dal</a:t>
            </a:r>
            <a:r>
              <a:rPr b="0" sz="2000" spc="-1" strike="noStrike">
                <a:solidFill>
                  <a:srgbClr val="ffffcc"/>
                </a:solidFill>
                <a:latin typeface="Times New Roman"/>
              </a:rPr>
              <a:t> 1969) : 1,3 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milioni di studenti</a:t>
            </a:r>
            <a:r>
              <a:rPr b="0" sz="2000" spc="-1" strike="noStrike">
                <a:solidFill>
                  <a:srgbClr val="ffffcc"/>
                </a:solidFill>
                <a:latin typeface="Times New Roman"/>
              </a:rPr>
              <a:t> d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sz="2000" spc="-1" strike="noStrike">
                <a:solidFill>
                  <a:srgbClr val="ffffcc"/>
                </a:solidFill>
                <a:latin typeface="Times New Roman"/>
              </a:rPr>
              <a:t> 9, 13,</a:t>
            </a:r>
            <a:br>
              <a:rPr sz="2000"/>
            </a:br>
            <a:r>
              <a:rPr b="0" sz="2000" spc="-1" strike="noStrike">
                <a:solidFill>
                  <a:srgbClr val="ffffcc"/>
                </a:solidFill>
                <a:latin typeface="Times New Roman"/>
              </a:rPr>
              <a:t>17 an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ni </a:t>
            </a:r>
            <a:r>
              <a:rPr b="0" sz="20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ffffcc"/>
                </a:solidFill>
                <a:latin typeface="Times New Roman"/>
              </a:rPr>
              <a:t>de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lla</a:t>
            </a:r>
            <a:r>
              <a:rPr b="0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terza</a:t>
            </a:r>
            <a:r>
              <a:rPr b="0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settima</a:t>
            </a:r>
            <a:r>
              <a:rPr b="0" sz="2000" spc="-1" strike="noStrike">
                <a:solidFill>
                  <a:srgbClr val="ffffcc"/>
                </a:solidFill>
                <a:latin typeface="Times New Roman"/>
              </a:rPr>
              <a:t> e 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undicesima clas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Il programma di valutazione collegato alla riforma </a:t>
            </a:r>
            <a:r>
              <a:rPr b="0" sz="2000" spc="-1" strike="noStrike">
                <a:solidFill>
                  <a:srgbClr val="ffffcc"/>
                </a:solidFill>
                <a:latin typeface="Times New Roman"/>
              </a:rPr>
              <a:t>No Child Left Behind (2002-2012 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negli</a:t>
            </a:r>
            <a:r>
              <a:rPr b="0" sz="2000" spc="-1" strike="noStrike">
                <a:solidFill>
                  <a:srgbClr val="ffffcc"/>
                </a:solidFill>
                <a:latin typeface="Times New Roman"/>
              </a:rPr>
              <a:t> US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cc"/>
                </a:solidFill>
                <a:latin typeface="Times New Roman"/>
              </a:rPr>
              <a:t>UK (Education Reform Act 1988)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: valutazione a 7, 9, 11 e 14 ann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_PROV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915F-BF2F-48BF-AE72-ACAE14A9C9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5EDA9-9EA9-4C3F-A22C-07E9C9D371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fr-CH" sz="4400" spc="-1" strike="noStrike">
                <a:solidFill>
                  <a:srgbClr val="ffcc00"/>
                </a:solidFill>
                <a:latin typeface="Times New Roman"/>
              </a:rPr>
              <a:t>Scaletta della relazio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35812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 anchorCtr="1">
            <a:normAutofit/>
          </a:bodyPr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fr-CH" sz="2400" spc="-1" strike="noStrike">
                <a:solidFill>
                  <a:srgbClr val="ffffcc"/>
                </a:solidFill>
                <a:latin typeface="Times New Roman"/>
              </a:rPr>
              <a:t>Excursus stor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0" lang="fr-CH" sz="2400" spc="-1" strike="noStrike">
                <a:solidFill>
                  <a:srgbClr val="ffffcc"/>
                </a:solidFill>
                <a:latin typeface="Times New Roman"/>
              </a:rPr>
              <a:t>Cos’è un indicatore?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3. </a:t>
            </a:r>
            <a:r>
              <a:rPr b="0" lang="fr-CH" sz="2400" spc="-1" strike="noStrike">
                <a:solidFill>
                  <a:srgbClr val="ffffcc"/>
                </a:solidFill>
                <a:latin typeface="Times New Roman"/>
              </a:rPr>
              <a:t>Quali sono le ragioni della popolarità degli  indicatori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Times New Roman"/>
              </a:rPr>
              <a:t>4. Indicatori e valutazione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18360" y="6248520"/>
            <a:ext cx="281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_PROV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9CD-8A41-49D2-AB8A-D84C4F513B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683FE-E8F9-483F-A779-3062BA2237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cc00"/>
                </a:solidFill>
                <a:latin typeface="Times New Roman"/>
              </a:rPr>
              <a:t>1.1 Excursus storico : </a:t>
            </a:r>
            <a:br>
              <a:rPr sz="3200"/>
            </a:br>
            <a:r>
              <a:rPr b="0" lang="fr-CH" sz="3200" spc="-1" strike="noStrike">
                <a:solidFill>
                  <a:srgbClr val="ffcc00"/>
                </a:solidFill>
                <a:latin typeface="Times New Roman"/>
              </a:rPr>
              <a:t>i precursori degli indicatori dell’istruzion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I.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I primi decenni del Novecento: l’esplorazione, la messa a punto e la consolidazione metodologica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Gli albori (1900-1930)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CH" sz="1600" spc="-1" strike="noStrike">
                <a:solidFill>
                  <a:srgbClr val="ffffcc"/>
                </a:solidFill>
                <a:latin typeface="Times New Roman"/>
              </a:rPr>
              <a:t>la ricerca dell’efficienza 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cc"/>
                </a:solidFill>
                <a:latin typeface="Times New Roman"/>
              </a:rPr>
              <a:t>Invenzione e sviluppo dei test e delle prove standardizzate (Thorndike) 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La nascita della ricerca sulla valutazione ( 1930-1945):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cc"/>
                </a:solidFill>
                <a:latin typeface="Times New Roman"/>
              </a:rPr>
              <a:t>Eight-year Study, USA, 1932-1940 :30 scuole, 1500 coppie di studenti a confronto , frequentanti rispettivamente il liceo tradizionale o una scuola secondaria sperimentale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cc"/>
                </a:solidFill>
                <a:latin typeface="Times New Roman"/>
              </a:rPr>
              <a:t>Il precursore: Ralph Tyl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_PROV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4A5-DD5E-4830-AC73-9A9B42A6ED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9A475-BF71-491F-8338-9C7D810226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cc00"/>
                </a:solidFill>
                <a:latin typeface="Times New Roman"/>
              </a:rPr>
              <a:t>1.2 Excursus storico: il dopoguerr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II.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Gli indicatori sociali :ventanni di tentativi 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(19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0-1980) 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III.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Gli indicatori dell’istruzione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 (1990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Vedasi: 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 Politiques d ’éducation et de formation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2001/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nalyses 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comparaisons internationales, les indicateurs comme outils des politiqu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éducative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_PROV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644-5B0E-425E-B652-0CE9502C56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04B75-844A-4948-A09C-0B77EB3C4E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cc00"/>
                </a:solidFill>
                <a:latin typeface="Times New Roman"/>
              </a:rPr>
              <a:t>2. COS’È UN INDICATORE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_PROV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838-0EE4-41E3-8616-67C63085530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BF7B8-E5C1-44BB-BF47-42A6C1DF39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371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Times New Roman"/>
              </a:rPr>
              <a:t>2.</a:t>
            </a:r>
            <a:r>
              <a:rPr b="1" lang="fr-CH" sz="4400" spc="-1" strike="noStrike">
                <a:solidFill>
                  <a:srgbClr val="ffcc00"/>
                </a:solidFill>
                <a:latin typeface="Times New Roman"/>
              </a:rPr>
              <a:t>1 </a:t>
            </a:r>
            <a:r>
              <a:rPr b="1" lang="fr-FR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fr-CH" sz="4400" spc="-1" strike="noStrike">
                <a:solidFill>
                  <a:srgbClr val="ffcc00"/>
                </a:solidFill>
                <a:latin typeface="Times New Roman"/>
              </a:rPr>
              <a:t>Definizione di indicatore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Un valore significativo di un gruppo sociale o di un fenomeno preso in osservazio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Gli elementi della definizione 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cc"/>
                </a:solidFill>
                <a:latin typeface="Times New Roman"/>
              </a:rPr>
              <a:t>Valore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 : una misura, un dato statistico, un’osservazione quantificata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cc"/>
                </a:solidFill>
                <a:latin typeface="Times New Roman"/>
              </a:rPr>
              <a:t>Significativo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-- un’informazione che dice qualcosa, che ha un senso a proposito dell’oggetto preso in osservazion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-- nel senso statistico, un’informazione attendibile, comprovata, che ha un valore distintiv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cc"/>
                </a:solidFill>
                <a:latin typeface="Times New Roman"/>
              </a:rPr>
              <a:t>Gruppo sociale</a:t>
            </a:r>
            <a:r>
              <a:rPr b="0" lang="fr-CH" sz="1800" spc="-1" strike="noStrike">
                <a:solidFill>
                  <a:srgbClr val="ffffcc"/>
                </a:solidFill>
                <a:latin typeface="Times New Roman"/>
              </a:rPr>
              <a:t> : la classe, l’istituto scolastico, la fascia d’età, i diplomati, i laureati, i disoccupati, ecc.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_PROV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B5B-C45C-4CF7-BC93-41805D534A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CE3C1-7D85-490E-815A-FF7607C070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1295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CH" sz="4400" spc="-1" strike="noStrike">
                <a:solidFill>
                  <a:srgbClr val="ffcc00"/>
                </a:solidFill>
                <a:latin typeface="Times New Roman"/>
              </a:rPr>
              <a:t>2.2 Funzioni degli  indicatori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543800" cy="4191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CH" sz="20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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Conoscitiv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CH" sz="20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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Valutativ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CH" sz="20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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Amministrativa ( gestione e pilotaggio di un sistem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Gli indicatori hanno una funzione strumentale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Times New Roman"/>
              </a:rPr>
              <a:t>Gli indicatori non danno spiegazioni ma aiutano a capire, ossia a  formulare domande sensate e interpretazioni fondat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_PROV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922-6D8E-481E-BEDB-3966477E51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2207A-A0C2-4948-A05F-DF03CB2265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160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CH" sz="4400" spc="-1" strike="noStrike">
                <a:solidFill>
                  <a:srgbClr val="ffcc00"/>
                </a:solidFill>
                <a:latin typeface="Times New Roman"/>
              </a:rPr>
              <a:t>2.3 </a:t>
            </a:r>
            <a:r>
              <a:rPr b="1" lang="fr-CH" sz="4400" spc="-1" strike="noStrike">
                <a:solidFill>
                  <a:srgbClr val="ffcc00"/>
                </a:solidFill>
                <a:latin typeface="Times New Roman"/>
              </a:rPr>
              <a:t> Qualità che un indicatore deve avere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848720" cy="3886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Times New Roman"/>
              </a:rPr>
              <a:t>La precisione ( dei valori, ossia delle misur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Times New Roman"/>
              </a:rPr>
              <a:t>La pertinenza rispetto all’oggetto  osserva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Times New Roman"/>
              </a:rPr>
              <a:t>La stabilità ( non cambia di significato o d’importanza nel tempo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Times New Roman"/>
              </a:rPr>
              <a:t>La tempestività dell’informazi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Times New Roman"/>
              </a:rPr>
              <a:t>La validità scientif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6248520"/>
            <a:ext cx="281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_PROV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5CA4-7842-489B-9C8F-851DC3D29E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89111-FC61-49DF-92E5-C4EC1BB590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CH" sz="4400" spc="-1" strike="noStrike">
                <a:solidFill>
                  <a:srgbClr val="ffcc00"/>
                </a:solidFill>
                <a:latin typeface="Times New Roman"/>
              </a:rPr>
              <a:t>2.4 </a:t>
            </a:r>
            <a:r>
              <a:rPr b="1" lang="fr-CH" sz="4400" spc="-1" strike="noStrike">
                <a:solidFill>
                  <a:srgbClr val="ffcc00"/>
                </a:solidFill>
                <a:latin typeface="Times New Roman"/>
              </a:rPr>
              <a:t>Gli insiemi d’indicatori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7335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2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cc"/>
                </a:solidFill>
                <a:latin typeface="Times New Roman"/>
              </a:rPr>
              <a:t>Un indicatore singolo di solito è un indice composito che sintetizza un insieme di molteplici dati o di svariate mi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cc"/>
                </a:solidFill>
                <a:latin typeface="Times New Roman"/>
              </a:rPr>
              <a:t>Un insieme di indicatori comprende dati tra loro complementari, scelti in modo ragionato per produrre un’informazione su comportamenti significativi di un sistema ( per esempio il sistema scolastico nel suo compless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_PROV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5488-0AF9-44BF-A57E-D73A402E419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62F65-3B98-4263-B69B-0A5B0BAD1E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3:59:25Z</dcterms:created>
  <dc:creator>CTI</dc:creator>
  <dc:description/>
  <dc:language>en-US</dc:language>
  <cp:lastModifiedBy>bottani</cp:lastModifiedBy>
  <cp:lastPrinted>2002-07-09T09:02:01Z</cp:lastPrinted>
  <dcterms:modified xsi:type="dcterms:W3CDTF">2003-01-16T06:30:34Z</dcterms:modified>
  <cp:revision>116</cp:revision>
  <dc:subject/>
  <dc:title>Les indicateurs de l’enseignement du Canton de Genève</dc:title>
</cp:coreProperties>
</file>